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82D6-2098-47A0-995E-4FE2D86DC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7933-F6F4-47B2-8E5A-F5C8846D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materials are based on Ken Rice and Thomas Lumley’s lecture on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A7B6-3E6C-4927-953C-00292982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o 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7D43-C95D-4FC8-A500-0F580A23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ore men than women in the d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7BDC-CAF1-41E1-B8AA-1B099EF14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at 2%, is this higher or lower than your expecta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5AB-3D42-4057-AE3F-142ECDE3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000-2469-45D8-8489-D9B75CA9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EE5-5A56-4932-AF55-4A46BA96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D6E-C3A4-450E-BD4C-195557E5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83B-E3D7-4992-AC76-146D2CD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330-FF20-4C26-A94C-608D1E70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9B0-FCC7-4F52-9DD7-4B57D9DB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9A5-6D9A-4DE1-A2D7-0FC141D0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86F-4BDC-4BDD-8FD7-4C05D989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D48-D3C5-43AA-A706-7A527E8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619-E9DD-4803-B45C-A61DA860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EFC-09CC-49C9-A0CA-6F33C3F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CF07-6AEC-454F-89C5-AD3D80ADA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g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9525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regression explore the association between salary between ge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7"/>
          <p:cNvGraphicFramePr/>
          <p:nvPr/>
        </p:nvGraphicFramePr>
        <p:xfrm>
          <a:off x="914400" y="1447920"/>
          <a:ext cx="7315200" cy="51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7"/>
          <p:cNvSpPr/>
          <p:nvPr/>
        </p:nvSpPr>
        <p:spPr>
          <a:xfrm>
            <a:off x="1752480" y="5486400"/>
            <a:ext cx="1752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-squa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fficient of determination, which is the percentage of variance explained by the statistical mod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http://en.wikipedia.org/wiki/R_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 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990720" y="1676520"/>
          <a:ext cx="74674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4674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7"/>
          <p:cNvSpPr/>
          <p:nvPr/>
        </p:nvSpPr>
        <p:spPr>
          <a:xfrm>
            <a:off x="2825280" y="4800600"/>
            <a:ext cx="2442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ru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…] for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( … ) f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, t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609480" y="1523880"/>
          <a:ext cx="74548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4548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5416560" y="2703600"/>
            <a:ext cx="2387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2.2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H0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 and operations on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7"/>
          <p:cNvGraphicFramePr/>
          <p:nvPr/>
        </p:nvGraphicFramePr>
        <p:xfrm>
          <a:off x="457200" y="1981080"/>
          <a:ext cx="8229600" cy="34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4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8"/>
          <p:cNvSpPr/>
          <p:nvPr/>
        </p:nvSpPr>
        <p:spPr>
          <a:xfrm>
            <a:off x="2825280" y="4800600"/>
            <a:ext cx="2442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ru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…] for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( … ) f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 data in a data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685800" y="1828800"/>
          <a:ext cx="800100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800100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Brackets and parenth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72736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523880" y="1981080"/>
            <a:ext cx="5883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# barackets are often for variable-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[i,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y[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z[[1]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# parentheses are often fo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.test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f (x &lt;0 ) { x = -x;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#curly parentheses are for other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salary dependent on rank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on your 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used regression and t-test to examine whether gender significantly influences one’s salary. Now, you can modify these scripts to explore the effect of ra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ultiple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1143000" y="1220760"/>
          <a:ext cx="63244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20760"/>
                    <a:ext cx="63244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a langua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685800" y="1523880"/>
          <a:ext cx="6496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6496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re categorical variab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295280" y="2057400"/>
          <a:ext cx="528336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528336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133640" y="1600200"/>
          <a:ext cx="68767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600200"/>
                    <a:ext cx="6876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7"/>
          <p:cNvSpPr/>
          <p:nvPr/>
        </p:nvSpPr>
        <p:spPr>
          <a:xfrm>
            <a:off x="914400" y="4191120"/>
            <a:ext cx="1676520" cy="533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838080" y="4114800"/>
            <a:ext cx="304920" cy="304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ing the history in plot-windows, then use page-up and downs to exam plo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752480" y="1447920"/>
          <a:ext cx="518184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518184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Line 7"/>
          <p:cNvSpPr/>
          <p:nvPr/>
        </p:nvSpPr>
        <p:spPr>
          <a:xfrm>
            <a:off x="1141560" y="1827360"/>
            <a:ext cx="612720" cy="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 a exampl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1981080"/>
            <a:ext cx="79246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(airquality)  #load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(airquality) #check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quality$date&lt;-with(airquality, ISOdate(1973,Month,Day))  #cove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(Ozone~date, data=airquality)  #do the first 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 plo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ot(Ozone~date, data=airquali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plot1"/>
          <p:cNvPicPr/>
          <p:nvPr/>
        </p:nvPicPr>
        <p:blipFill>
          <a:blip r:embed="rId1"/>
          <a:stretch/>
        </p:blipFill>
        <p:spPr>
          <a:xfrm>
            <a:off x="914400" y="2133720"/>
            <a:ext cx="740736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d&lt;-ifelse(airquality$Ozone&gt;=90, "orange","forestgreen") #assign bad 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(Ozone~date, data=airquality,type="h",col=bad)  #do the p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line(h=90,lty=2,col="red")  #add a horizontal re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fig2"/>
          <p:cNvPicPr/>
          <p:nvPr/>
        </p:nvPicPr>
        <p:blipFill>
          <a:blip r:embed="rId1"/>
          <a:stretch/>
        </p:blipFill>
        <p:spPr>
          <a:xfrm>
            <a:off x="1219320" y="2741760"/>
            <a:ext cx="647676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your pl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1136520" y="1600200"/>
          <a:ext cx="68709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600200"/>
                    <a:ext cx="6870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Line 6"/>
          <p:cNvSpPr/>
          <p:nvPr/>
        </p:nvSpPr>
        <p:spPr>
          <a:xfrm>
            <a:off x="457200" y="1828800"/>
            <a:ext cx="612720" cy="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 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a calcula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914400" y="1371600"/>
          <a:ext cx="60958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60958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 to your work directo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1600200" y="1676520"/>
          <a:ext cx="624852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62485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Line 7"/>
          <p:cNvSpPr/>
          <p:nvPr/>
        </p:nvSpPr>
        <p:spPr>
          <a:xfrm>
            <a:off x="990720" y="3352680"/>
            <a:ext cx="6858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your work directo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1922400" y="2000160"/>
          <a:ext cx="52974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2000160"/>
                    <a:ext cx="52974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in a data fi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457200" y="1143000"/>
          <a:ext cx="784872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784872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up-down buttons to look for previous comma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2004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e 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5"/>
          <p:cNvGraphicFramePr/>
          <p:nvPr/>
        </p:nvGraphicFramePr>
        <p:xfrm>
          <a:off x="1066680" y="1295280"/>
          <a:ext cx="6705720" cy="50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670572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 the data. Is there a bias in salary due to ge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6"/>
          <p:cNvGraphicFramePr/>
          <p:nvPr/>
        </p:nvGraphicFramePr>
        <p:xfrm>
          <a:off x="685800" y="1447920"/>
          <a:ext cx="76201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6201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0:41:50Z</dcterms:created>
  <dc:creator>Hong Qin</dc:creator>
  <dc:description/>
  <dc:language>en-US</dc:language>
  <cp:lastModifiedBy>hqin</cp:lastModifiedBy>
  <dcterms:modified xsi:type="dcterms:W3CDTF">2010-01-18T14:41:29Z</dcterms:modified>
  <cp:revision>142</cp:revision>
  <dc:subject/>
  <dc:title>Introduction to R</dc:title>
</cp:coreProperties>
</file>