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F37D-1F9D-4726-8B3E-1B1E39FB1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materials are based on Ken Rice and Thomas Lumley’s lecture on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remove %%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08D-0CFC-4018-8E71-1C1C6C77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E08-2A39-4FDB-BDAA-869536E6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213-1F8D-4430-A941-2B9EA921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DEE-4773-45A8-AA2F-0A27DC43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791-D253-4BCD-BCCB-84AC6B7B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394-7F38-4573-B6A9-09D2F27C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128-6300-4FE8-8452-3799E98D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7B7-EE0D-49BB-AA17-8C8B6571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8A1-2924-4161-8935-6B20E6E8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740-FE05-4D2D-9870-ACA917A2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F77-886D-4E14-9D14-A348E79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A81-97A2-45FE-B4FE-570BA03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92EE-E7C7-4FE2-B0FB-B7674B02E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programming in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g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9525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op (an iter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447920"/>
            <a:ext cx="46483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for ( i in 1:3) print(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1]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1]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1]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352680"/>
            <a:ext cx="464832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i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while( i&lt;=3 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 print(i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 i=i+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1]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1]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1]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10360" y="2362320"/>
            <a:ext cx="1143000" cy="7617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s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3733920"/>
            <a:ext cx="1523880" cy="6858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2"/>
            <a:endCxn id="55" idx="0"/>
          </p:cNvCxnSpPr>
          <p:nvPr/>
        </p:nvCxnSpPr>
        <p:spPr>
          <a:xfrm>
            <a:off x="6781320" y="31240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5" idx="3"/>
            <a:endCxn id="54" idx="3"/>
          </p:cNvCxnSpPr>
          <p:nvPr/>
        </p:nvCxnSpPr>
        <p:spPr>
          <a:xfrm flipH="1" flipV="1">
            <a:off x="7352640" y="2742840"/>
            <a:ext cx="191160" cy="1334160"/>
          </a:xfrm>
          <a:prstGeom prst="bentConnector3">
            <a:avLst>
              <a:gd name="adj1" fmla="val -1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834680" y="32367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3480" y="4495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295280"/>
            <a:ext cx="38098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= (equ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!= (not equal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= (greater than or equal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895480"/>
            <a:ext cx="3809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amp; (an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 (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! (n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267080"/>
            <a:ext cx="38098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x = 1.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if ((x&lt;1)&amp;(x&gt;0)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rint("percentag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y =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rint("non-percentag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y = x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3276720"/>
            <a:ext cx="1523880" cy="68580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&lt;1 &amp; x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20040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572000"/>
            <a:ext cx="1219320" cy="5335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4572000"/>
            <a:ext cx="1600200" cy="5335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5" idx="1"/>
            <a:endCxn id="67" idx="0"/>
          </p:cNvCxnSpPr>
          <p:nvPr/>
        </p:nvCxnSpPr>
        <p:spPr>
          <a:xfrm flipV="1" rot="10800000">
            <a:off x="5790600" y="3619080"/>
            <a:ext cx="22932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3"/>
            <a:endCxn id="68" idx="0"/>
          </p:cNvCxnSpPr>
          <p:nvPr/>
        </p:nvCxnSpPr>
        <p:spPr>
          <a:xfrm>
            <a:off x="7543440" y="3619440"/>
            <a:ext cx="34380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7620120" y="32767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447920"/>
            <a:ext cx="5867280" cy="49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take even number in x (a 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_even = function( x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c(); #empty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( i in 1:length(x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 (x[i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 2 )== 0 ) { # x m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c(y, x[i]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; #the last line, return y to the ma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to use thi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1: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ke_even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Scope of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447920"/>
            <a:ext cx="6553440" cy="430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rm(list=ls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x = c( 1,2,3,4);  # a global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ake_even = function( x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y = c(); # a local copy inside of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for( i in 1:length(x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f ( (x[i]%% 2 )== 0 ) { # x m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y = c(y, x[i]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y; #the last line, return y to the ma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w = take_even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SimSun"/>
              </a:rPr>
              <a:t>y;# should not 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function calls another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1523880"/>
            <a:ext cx="54104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_total = function( x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take_even(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(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c( 1,2,3,4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even_total( x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R function to calculate the amount of NaCl in grams for x minimolar (mM) y ml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weight of NaCl is 58.443. Hence, for 1.0 liter 1M solution, we need 58.443 gram of NaC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1mM = 0.001M, 1ml=0.001l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4114800"/>
            <a:ext cx="5121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unction should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ar_solution &lt;- function( x, y 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# x is mM, y is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improve your function by adding an option to specify the formula we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981080"/>
            <a:ext cx="5121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unction should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ar_solution2 &lt;- function( x, y, FW 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# x is mM, y is ml, FW is formula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5360" y="4876920"/>
            <a:ext cx="56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, try for 0.1M 100ml KCl (FW=74.5513) solu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improve the intelligence of the cod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an it automatically determine formula we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666880"/>
            <a:ext cx="51210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function should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ar_solution3 &lt;- function( x, y, Formula 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# x is mM, y is m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Formula is a character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9040" y="1865160"/>
            <a:ext cx="45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ow, let’s only deal with NaCl and KC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0:41:50Z</dcterms:created>
  <dc:creator>Hong Qin</dc:creator>
  <dc:description/>
  <dc:language>en-US</dc:language>
  <cp:lastModifiedBy>Hong Qin</cp:lastModifiedBy>
  <dcterms:modified xsi:type="dcterms:W3CDTF">2009-02-02T20:46:10Z</dcterms:modified>
  <cp:revision>180</cp:revision>
  <dc:subject/>
  <dc:title>Introduction to R</dc:title>
</cp:coreProperties>
</file>