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wmf" ContentType="image/x-wmf"/>
  <Override PartName="/ppt/media/image22.png" ContentType="image/png"/>
  <Override PartName="/ppt/media/image13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3.png" ContentType="image/png"/>
  <Override PartName="/ppt/media/image28.jpeg" ContentType="image/jpeg"/>
  <Override PartName="/ppt/media/image10.wmf" ContentType="image/x-wmf"/>
  <Override PartName="/ppt/media/image9.jpeg" ContentType="image/jpeg"/>
  <Override PartName="/ppt/media/image7.jpeg" ContentType="image/jpeg"/>
  <Override PartName="/ppt/media/image31.wmf" ContentType="image/x-wmf"/>
  <Override PartName="/ppt/media/image25.png" ContentType="image/png"/>
  <Override PartName="/ppt/media/image19.jpeg" ContentType="image/jpeg"/>
  <Override PartName="/ppt/media/image32.png" ContentType="image/png"/>
  <Override PartName="/ppt/media/image1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6.jpeg" ContentType="image/jpeg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27C6-B9A1-4FFE-87AA-8D3D8EA0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spread of infectious diseases is the first step to contain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spread of infectious diseases is the first step to contain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flat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only matches and misma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FEC5-48B3-4AEF-86E2-8B07A827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for form grou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for form grou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509-6490-40A4-932E-65017D0D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e acute respiratory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A virus, corona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e acute respiratory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A virus, corona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spread of infectious diseases is the first step to contain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214-6EE1-45EE-8538-40DFDDAE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010760"/>
            <a:ext cx="6400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167-D132-405C-A7AB-57C6EC4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01076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360" y="401076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4F8-E985-40E4-9137-8D73DA0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360" y="198072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5680" y="198072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01076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360" y="401076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5680" y="4010760"/>
            <a:ext cx="206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E43-8508-4883-9232-C1C826FB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E60-C707-45AB-B087-3D8D6CF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BB3-0B71-4DE9-86E8-207A18A4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123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360" y="1980720"/>
            <a:ext cx="3123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1C8-5093-48BC-9E5D-1FEF2CF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8D9-7F4B-4FB6-86DC-56CDC0E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935-F9BA-4321-B789-67EBE26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1980720"/>
            <a:ext cx="3123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01076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78B-E45B-493D-AB76-0D987B3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123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360" y="401076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44F-7FED-46BB-BF9F-DF2CDC8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1980720"/>
            <a:ext cx="3123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010760"/>
            <a:ext cx="6400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938-8E60-436B-985E-251A42E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7CA-0A10-4DB6-A6D3-07123A49D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2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2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ds.yahoo.com/_ylt=A0geu9LvTpBJt2YBXPhXNyoA;_ylu=X3oDMTBscWN2ZnBjBHNlYwNzYwRjb2xvA2FjMgR2dGlkAw--/SIG=1n1jjc7vl/EXP=1234280559/**http%3A//images.search.yahoo.com/images/view%3Fback=http%253A%252F%252Fsearch.yahoo.com%252Fsearch%253Fei%253DUTF-8%2526p%253Ddna%26w=270%26h=676%26imgurl=www.bible-study-online.juliantrubin.com%252Fencyclopedia%252Fbiochemistry%252Fdna_files%252F270px-DNA_Overview.png%26size=166.2kB%26name=270px-DNA_Overview.png%26rcurl=http%253A%252F%252Fwww.bible-study-online.juliantrubin.com%252Fencyclopedia%252Fbiochemistry%252Fdna_files%253FD%253DA%26rurl=http%253A%252F%252Fwww.bible-study-online.juliantrubin.com%252Fencyclopedia%252Fbiochemistry%252Fdna_files%253FD%253DA%26p=dna%26type=png%26no=2%26tt=1%252C939%252C882%26oid=5a5ec97ca4b1cbb6%26tit=270px-DNA_Overview.png%26sigr=12m34j6dp%26sigi=132kft3ti%26sigb=11dloti3f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4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rds.yahoo.com/_ylt=A0geu5skT5BJphcBgzVXNyoA;_ylu=X3oDMTBscWN2ZnBjBHNlYwNzYwRjb2xvA2FjMgR2dGlkAw--/SIG=1m9c427eo/EXP=1234280612/**http%3A//images.search.yahoo.com/images/view%3Fback=http%253A%252F%252Fsearch.yahoo.com%252Fsearch%253Fei%253DUTF-8%2526p%253Dtrees%26w=500%26h=447%26imgurl=static.flickr.com%252F55%252F119916909_cf88adebb9.jpg%26size=149.5kB%26name=119916909_cf88adebb9.jpg%26rcurl=http%253A%252F%252Fwww.flickr.com%252Fphotos%252Fvictorkeech%252F119916909%252F%26rurl=http%253A%252F%252Fwww.flickr.com%252Fphotos%252Fvictorkeech%252F119916909%252F%26p=trees%26type=jpeg%26no=2%26tt=13%252C106%252C496%26oid=9d032c1506901a4e%26fusr=Victor%2BKeech%26hurl=http%253A%252F%252Fwww.flickr.com%252Fphotos%252Fvictorkeech%252F%26tit=Trees%252C%2BBath%26sigr=11j9q8n0r%26sigi=11dofnevg%26sigb=11ffl63dr%26sigh=1194lte8p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rds.yahoo.com/_ylt=A0geu5skT5BJphcBgzVXNyoA;_ylu=X3oDMTBscWN2ZnBjBHNlYwNzYwRjb2xvA2FjMgR2dGlkAw--/SIG=1m9c427eo/EXP=1234280612/**http%3A//images.search.yahoo.com/images/view%3Fback=http%253A%252F%252Fsearch.yahoo.com%252Fsearch%253Fei%253DUTF-8%2526p%253Dtrees%26w=500%26h=447%26imgurl=static.flickr.com%252F55%252F119916909_cf88adebb9.jpg%26size=149.5kB%26name=119916909_cf88adebb9.jpg%26rcurl=http%253A%252F%252Fwww.flickr.com%252Fphotos%252Fvictorkeech%252F119916909%252F%26rurl=http%253A%252F%252Fwww.flickr.com%252Fphotos%252Fvictorkeech%252F119916909%252F%26p=trees%26type=jpeg%26no=2%26tt=13%252C106%252C496%26oid=9d032c1506901a4e%26fusr=Victor%2BKeech%26hurl=http%253A%252F%252Fwww.flickr.com%252Fphotos%252Fvictorkeech%252F%26tit=Trees%252C%2BBath%26sigr=11j9q8n0r%26sigi=11dofnevg%26sigb=11ffl63dr%26sigh=1194lte8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ssential concepts in phylogen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7920" y="2590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g Q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1003320" cy="150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1316160" cy="87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90920" y="4419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1579680" cy="1092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905120"/>
            <a:ext cx="7737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21A-63C7-4443-888A-1D58D2AEA1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hylogeny demonstrates the spread of SARS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581280" cy="288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1219320"/>
            <a:ext cx="5181480" cy="914400"/>
          </a:xfrm>
          <a:prstGeom prst="roundRect">
            <a:avLst>
              <a:gd name="adj" fmla="val 16667"/>
            </a:avLst>
          </a:prstGeom>
          <a:solidFill>
            <a:srgbClr val="ccff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ing the spread of infectious diseases is the first the step to conta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953240" cy="29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00E-44A0-4636-8E7F-880A1EFE2E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hylogeny demonstrates the spread of SARS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581280" cy="2884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953240" cy="29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497-DD3C-46AE-847C-A1081FA6D7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How to generate a phylogenetic tree from sequences?</a:t>
            </a:r>
            <a:endParaRPr b="0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5181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irs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CCCACTACTAAAAATTATCAACC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Second 2 m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CCC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AAAAATTATCAACC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Three  3 m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C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gg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TACTAAAAATTATCAACC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our   5 mutation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tgg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TACTAAAAATTATCAACC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2C0-4E93-427F-8FD2-A5F70327E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hylogeny can build from a distance matrix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40892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429000" y="3962520"/>
          <a:ext cx="2514600" cy="2097000"/>
        </p:xfrm>
        <a:graphic>
          <a:graphicData uri="http://schemas.openxmlformats.org/drawingml/2006/table">
            <a:tbl>
              <a:tblPr/>
              <a:tblGrid>
                <a:gridCol w="503280"/>
                <a:gridCol w="502920"/>
                <a:gridCol w="503280"/>
                <a:gridCol w="501840"/>
                <a:gridCol w="50328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rot="19588200">
            <a:off x="2742840" y="3809520"/>
            <a:ext cx="304920" cy="838440"/>
          </a:xfrm>
          <a:prstGeom prst="downArrow">
            <a:avLst>
              <a:gd name="adj1" fmla="val 50000"/>
              <a:gd name="adj2" fmla="val 68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3627200">
            <a:off x="6362280" y="3390120"/>
            <a:ext cx="304920" cy="838440"/>
          </a:xfrm>
          <a:prstGeom prst="downArrow">
            <a:avLst>
              <a:gd name="adj1" fmla="val 50000"/>
              <a:gd name="adj2" fmla="val 68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irst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CCCACTACTAAAAATTATCAACC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Second 2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CCC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Courier New"/>
              </a:rPr>
              <a:t>t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AAAAATTATCAACC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Three  4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A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Courier New"/>
              </a:rPr>
              <a:t>agg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TACTAAAAATTATCAACC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Four   5 mut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CGAAAAACAC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Courier New"/>
              </a:rPr>
              <a:t>ttgg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TACTAAAAATTATCAACC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03D-A8F5-49CB-ADA6-A4F1474A4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is an distance matrix?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4038480"/>
          <a:ext cx="7432560" cy="1716120"/>
        </p:xfrm>
        <a:graphic>
          <a:graphicData uri="http://schemas.openxmlformats.org/drawingml/2006/table">
            <a:tbl>
              <a:tblPr/>
              <a:tblGrid>
                <a:gridCol w="1487520"/>
                <a:gridCol w="1490760"/>
                <a:gridCol w="1481040"/>
                <a:gridCol w="1485720"/>
                <a:gridCol w="14875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90720" y="3048120"/>
            <a:ext cx="485640" cy="1600200"/>
          </a:xfrm>
          <a:custGeom>
            <a:avLst/>
            <a:gdLst>
              <a:gd name="textAreaLeft" fmla="*/ 64800 w 485640"/>
              <a:gd name="textAreaRight" fmla="*/ 420840 w 48564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3266400">
            <a:off x="4453920" y="2368440"/>
            <a:ext cx="208080" cy="198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21400" y="1686240"/>
            <a:ext cx="702720" cy="767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8320" y="3141720"/>
            <a:ext cx="82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4800" y="2436840"/>
            <a:ext cx="1407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ttano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266400">
            <a:off x="5152680" y="1493640"/>
            <a:ext cx="206280" cy="199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9000" y="1219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shv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3266400">
            <a:off x="3729240" y="1528200"/>
            <a:ext cx="206640" cy="198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63040" y="1731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5720" y="1722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05040" y="1667160"/>
            <a:ext cx="701640" cy="768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1200" y="3013200"/>
            <a:ext cx="13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rmingh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5680" y="128268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noxv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5080" y="2559240"/>
            <a:ext cx="841680" cy="523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19080" y="2503800"/>
            <a:ext cx="1004400" cy="727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3266400">
            <a:off x="5384520" y="3095640"/>
            <a:ext cx="207720" cy="198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5200" y="25002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60000" y="28843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3266400">
            <a:off x="3583080" y="3031560"/>
            <a:ext cx="206640" cy="198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0A7-EE1E-4E3D-8A81-E180EF926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ees (phylogeny) can be build from distance matric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240" y="1981080"/>
            <a:ext cx="3358440" cy="1884960"/>
            <a:chOff x="228240" y="1981080"/>
            <a:chExt cx="3358440" cy="1884960"/>
          </a:xfrm>
        </p:grpSpPr>
        <p:sp>
          <p:nvSpPr>
            <p:cNvPr id="137" name=""/>
            <p:cNvSpPr/>
            <p:nvPr/>
          </p:nvSpPr>
          <p:spPr>
            <a:xfrm rot="3266400">
              <a:off x="1856160" y="2959560"/>
              <a:ext cx="174600" cy="157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92120" y="2375280"/>
              <a:ext cx="549360" cy="63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5280" y="36831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tla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02200" y="308772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attanoo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266400">
              <a:off x="2481480" y="2192760"/>
              <a:ext cx="174600" cy="157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4960" y="1981080"/>
              <a:ext cx="71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ashvi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3266400">
              <a:off x="1322640" y="2273760"/>
              <a:ext cx="174600" cy="157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3960" y="249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3080" y="2486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58760" y="2331720"/>
              <a:ext cx="587160" cy="651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240" y="35751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irmingh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25720" y="211464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noxvi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3266400">
              <a:off x="1170360" y="3416760"/>
              <a:ext cx="174600" cy="157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306800" y="3013920"/>
              <a:ext cx="681840" cy="487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986480" y="3058200"/>
              <a:ext cx="830160" cy="626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3266400">
              <a:off x="2665440" y="3544200"/>
              <a:ext cx="174960" cy="157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0440" y="31417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68000" y="3467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495680" y="1905120"/>
            <a:ext cx="40068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752480" y="4800600"/>
          <a:ext cx="5562360" cy="1333440"/>
        </p:xfrm>
        <a:graphic>
          <a:graphicData uri="http://schemas.openxmlformats.org/drawingml/2006/table">
            <a:tbl>
              <a:tblPr/>
              <a:tblGrid>
                <a:gridCol w="1112040"/>
                <a:gridCol w="1116360"/>
                <a:gridCol w="1109160"/>
                <a:gridCol w="1112400"/>
                <a:gridCol w="1112400"/>
              </a:tblGrid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477120" y="2362320"/>
            <a:ext cx="21333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588200">
            <a:off x="2742840" y="3809520"/>
            <a:ext cx="304920" cy="838440"/>
          </a:xfrm>
          <a:prstGeom prst="downArrow">
            <a:avLst>
              <a:gd name="adj1" fmla="val 50000"/>
              <a:gd name="adj2" fmla="val 68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3627200">
            <a:off x="5448240" y="3695400"/>
            <a:ext cx="304560" cy="838440"/>
          </a:xfrm>
          <a:prstGeom prst="downArrow">
            <a:avLst>
              <a:gd name="adj1" fmla="val 50000"/>
              <a:gd name="adj2" fmla="val 688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D13-17A8-42B3-BDCB-2B9CDAE37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ees (phylogeny) can be build from distance matric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240" y="1981080"/>
            <a:ext cx="3358440" cy="1884960"/>
            <a:chOff x="228240" y="1981080"/>
            <a:chExt cx="3358440" cy="1884960"/>
          </a:xfrm>
        </p:grpSpPr>
        <p:sp>
          <p:nvSpPr>
            <p:cNvPr id="162" name=""/>
            <p:cNvSpPr/>
            <p:nvPr/>
          </p:nvSpPr>
          <p:spPr>
            <a:xfrm rot="3266400">
              <a:off x="1856160" y="2959560"/>
              <a:ext cx="174600" cy="157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2120" y="2375280"/>
              <a:ext cx="549360" cy="63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95280" y="36831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tla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2200" y="308772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attanoo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3266400">
              <a:off x="2481480" y="2192760"/>
              <a:ext cx="174600" cy="157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4960" y="1981080"/>
              <a:ext cx="71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ashvi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3266400">
              <a:off x="1322640" y="2273760"/>
              <a:ext cx="174600" cy="157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3960" y="249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3080" y="2486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58760" y="2331720"/>
              <a:ext cx="587160" cy="651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240" y="35751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irmingh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25720" y="211464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noxvi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266400">
              <a:off x="1170360" y="3416760"/>
              <a:ext cx="174600" cy="157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306800" y="3013920"/>
              <a:ext cx="681840" cy="487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1986480" y="3058200"/>
              <a:ext cx="830160" cy="626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266400">
              <a:off x="2665440" y="3544200"/>
              <a:ext cx="174960" cy="157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50440" y="31417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68000" y="3467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495680" y="1905120"/>
            <a:ext cx="40068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52480" y="4800600"/>
          <a:ext cx="5562360" cy="1333440"/>
        </p:xfrm>
        <a:graphic>
          <a:graphicData uri="http://schemas.openxmlformats.org/drawingml/2006/table">
            <a:tbl>
              <a:tblPr/>
              <a:tblGrid>
                <a:gridCol w="1112040"/>
                <a:gridCol w="1116360"/>
                <a:gridCol w="1109160"/>
                <a:gridCol w="1112400"/>
                <a:gridCol w="1112400"/>
              </a:tblGrid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rmingh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h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xv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 rot="19588200">
            <a:off x="2819160" y="388584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3627200">
            <a:off x="5447880" y="3618720"/>
            <a:ext cx="304920" cy="838440"/>
          </a:xfrm>
          <a:prstGeom prst="downArrow">
            <a:avLst>
              <a:gd name="adj1" fmla="val 50000"/>
              <a:gd name="adj2" fmla="val 68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B80-D56D-4997-87D4-B16AEE6E9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23B-B551-4132-81BE-F251140E12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w, let’s do an exercise and solve a real-world problem.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351-EBDA-4BFF-AF1A-17B66F973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o is the closest living relative to the giant panda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66720" y="1809720"/>
            <a:ext cx="2743200" cy="189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352680" y="1523880"/>
            <a:ext cx="1741680" cy="261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981080" y="373392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4267080" y="3962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47920" y="525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685800" y="1828800"/>
            <a:ext cx="2743200" cy="1897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5105520" y="2362320"/>
            <a:ext cx="2438280" cy="1616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0"/>
          <a:srcRect l="16002" t="22752" r="45335" b="5213"/>
          <a:stretch/>
        </p:blipFill>
        <p:spPr>
          <a:xfrm>
            <a:off x="6172200" y="3962520"/>
            <a:ext cx="13953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BC3-553F-489C-9CE3-EE414DEEF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is phylogeny?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k orig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lon (tribe, r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sis (bir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molecular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1067040" cy="8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ww.bible-study-online.juliantrubin.com/encyclopedia/biochemistry/dna_files/270px-DNA_Overview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43800" y="3657600"/>
            <a:ext cx="6033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A2F-71FD-4F39-9CDE-221BC25FE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39804" t="0" r="0" b="-5039"/>
          <a:stretch/>
        </p:blipFill>
        <p:spPr>
          <a:xfrm>
            <a:off x="4267080" y="609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The riddle of the giant Pand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5181480"/>
          <a:ext cx="60958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181480"/>
                    <a:ext cx="6095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447920" y="525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457200" y="160020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685800" y="243828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600200" y="1905120"/>
            <a:ext cx="727200" cy="109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838080" y="2971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1752480" y="2971800"/>
            <a:ext cx="1067040" cy="70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CCA-8BA0-4A72-9CBE-4E9D165EF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 can use mitochondrial 16s rDNA sequences to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nerate a phylogeny.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933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http://www.bioinformatics.org/ctls/, choose “Modules”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Essential concepts of phyloge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the 16s rDNA FASTA file on your own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http://www.phylogeny.fr/, choose “One-click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and submit your 16s rDNA file (“panda16srDNA.fasta” by defaul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687-E579-4AE4-AA6C-F35C9BE2D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Who is the closest living relative of the giant panda?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095880" cy="4173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11400" y="5715000"/>
            <a:ext cx="73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just done the same work in a Nature public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ust a bit late (~24 yea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895480"/>
            <a:ext cx="2971800" cy="381240"/>
          </a:xfrm>
          <a:prstGeom prst="rect">
            <a:avLst/>
          </a:prstGeom>
          <a:solidFill>
            <a:srgbClr val="00ffff">
              <a:alpha val="13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700520" y="3100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rcRect l="17501" t="5828" r="0" b="0"/>
          <a:stretch/>
        </p:blipFill>
        <p:spPr>
          <a:xfrm>
            <a:off x="7238880" y="1447920"/>
            <a:ext cx="444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rcRect l="45463" t="0" r="9095" b="-8766"/>
          <a:stretch/>
        </p:blipFill>
        <p:spPr>
          <a:xfrm>
            <a:off x="5943600" y="434340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rcRect l="32003" t="20000" r="20000" b="12003"/>
          <a:stretch/>
        </p:blipFill>
        <p:spPr>
          <a:xfrm>
            <a:off x="7162920" y="2819520"/>
            <a:ext cx="376200" cy="53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47920" y="525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8"/>
          <a:srcRect l="17646" t="0" r="17646" b="0"/>
          <a:stretch/>
        </p:blipFill>
        <p:spPr>
          <a:xfrm>
            <a:off x="7315200" y="3886200"/>
            <a:ext cx="40968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6172200" y="2362320"/>
            <a:ext cx="609480" cy="404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0"/>
          <a:srcRect l="16002" t="22752" r="45335" b="5213"/>
          <a:stretch/>
        </p:blipFill>
        <p:spPr>
          <a:xfrm>
            <a:off x="6553080" y="3429000"/>
            <a:ext cx="347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AE4-270E-4316-B0A7-27E77EB303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ake home lessons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have just done the same work for a Nature publication. Is this all that it takes in sc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roject, most people can figure out ways to accomplish it. So, it is more important ask the right question and think in adv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lem well formulated is a problem half sol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415-A914-4336-8092-4548B31B87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F98-01C3-4B0F-AA6D-5DA18D7740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ckup slid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389-C3EE-44E6-A35F-2F23EBA848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hylogeny and SARS spreading (old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67080" cy="343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99096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B1B-4EAE-455B-8D4A-1C604563ED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Diagram of the spread of SARS from the Hotel Metropole in Hong Kong"/>
          <p:cNvPicPr/>
          <p:nvPr/>
        </p:nvPicPr>
        <p:blipFill>
          <a:blip r:embed="rId1"/>
          <a:stretch/>
        </p:blipFill>
        <p:spPr>
          <a:xfrm>
            <a:off x="12193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811-2818-4786-A77C-72327CDFCB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is phylogeny?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s!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958080" y="4576680"/>
            <a:ext cx="1193760" cy="163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280" y="4753080"/>
            <a:ext cx="1817640" cy="121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776760" y="4680000"/>
            <a:ext cx="1482480" cy="1388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3880" y="2293920"/>
            <a:ext cx="8461440" cy="2261880"/>
            <a:chOff x="353880" y="2293920"/>
            <a:chExt cx="8461440" cy="2261880"/>
          </a:xfrm>
        </p:grpSpPr>
        <p:grpSp>
          <p:nvGrpSpPr>
            <p:cNvPr id="64" name=""/>
            <p:cNvGrpSpPr/>
            <p:nvPr/>
          </p:nvGrpSpPr>
          <p:grpSpPr>
            <a:xfrm>
              <a:off x="1793880" y="2293920"/>
              <a:ext cx="5849640" cy="1578960"/>
              <a:chOff x="1793880" y="2293920"/>
              <a:chExt cx="5849640" cy="1578960"/>
            </a:xfrm>
          </p:grpSpPr>
          <p:sp>
            <p:nvSpPr>
              <p:cNvPr id="65" name=""/>
              <p:cNvSpPr/>
              <p:nvPr/>
            </p:nvSpPr>
            <p:spPr>
              <a:xfrm flipH="1" flipV="1">
                <a:off x="4642920" y="2314080"/>
                <a:ext cx="3000600" cy="1528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1793880" y="2293920"/>
                <a:ext cx="2857320" cy="1499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330800" y="2987280"/>
                <a:ext cx="1614240" cy="885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481800" y="4035240"/>
              <a:ext cx="23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CG</a:t>
              </a:r>
              <a:r>
                <a:rPr b="0" lang="en-US" sz="2800" spc="-1" strike="noStrike">
                  <a:solidFill>
                    <a:srgbClr val="ccccff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32240" y="4035240"/>
              <a:ext cx="23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CG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880" y="4035240"/>
              <a:ext cx="233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AG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958000" y="2985840"/>
              <a:ext cx="1692000" cy="864720"/>
            </a:xfrm>
            <a:prstGeom prst="line">
              <a:avLst/>
            </a:prstGeom>
            <a:ln w="540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508200" y="621360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mpanz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26400" y="6213600"/>
            <a:ext cx="13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200" y="6213600"/>
            <a:ext cx="15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167796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ancestral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B7D-4EAA-41FF-B68C-D4412C9B4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w to read a phylogenetic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6019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es and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 in a bifurcating pattern are relative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furcating patterns describes the relatedness of all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orizontal branches count for dista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242568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static.flickr.com/55/119916909_cf88adebb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B2A-56BC-4683-A4F4-EEE1F4542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w to read a phylogenetic tre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2425680" cy="203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static.flickr.com/55/119916909_cf88adebb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7120" y="1963800"/>
            <a:ext cx="1487520" cy="1676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6019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es and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 in a bifurcating pattern are relative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furcating patterns describes the relatedness of all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orizontal branches count for dista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CF9-D0C6-45D3-B84A-A545199BA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838080" cy="59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phylogeny?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Let’s start with an example: 2003 SARS outbreak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acute respiratory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ality rate is ~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1524240" cy="141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3047760" cy="2890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4857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708-15E2-495A-BEB5-507BA4CE54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brief timeline of the outbreak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2: 305 cases, Guangdong,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21, 2003: A doctor from Guangdong traveled to a Hong Kong hotel, outbreaks in Hong Kong beg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- March, 2003: Guests at the same hotel traveled to Canada, Singapore, Taiwan, and Vietn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905120"/>
            <a:ext cx="304920" cy="3124080"/>
          </a:xfrm>
          <a:prstGeom prst="downArrow">
            <a:avLst>
              <a:gd name="adj1" fmla="val 48954"/>
              <a:gd name="adj2" fmla="val 188215"/>
            </a:avLst>
          </a:prstGeom>
          <a:gradFill rotWithShape="0">
            <a:gsLst>
              <a:gs pos="0">
                <a:srgbClr val="00cc99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607-DE1E-4DC9-B47C-C5E0130DCB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read of SARS among guests at hotel Metropole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6638" r="0" b="9761"/>
          <a:stretch/>
        </p:blipFill>
        <p:spPr>
          <a:xfrm>
            <a:off x="2362320" y="1523880"/>
            <a:ext cx="6172200" cy="50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A6F-1BD9-4ED4-B98D-DB5AC49AD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read of SARS based sequence comparison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de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quence similarity of SARS isolates overlaid on Googl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1DD-C298-4D30-959B-6207FCF49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8:34:48Z</dcterms:created>
  <dc:creator>Pevsner</dc:creator>
  <dc:description/>
  <dc:language>en-US</dc:language>
  <cp:lastModifiedBy>Hong Qin</cp:lastModifiedBy>
  <dcterms:modified xsi:type="dcterms:W3CDTF">2009-02-22T21:55:12Z</dcterms:modified>
  <cp:revision>541</cp:revision>
  <dc:subject/>
  <dc:title>PowerPoint Presentation</dc:title>
</cp:coreProperties>
</file>