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C905-6279-4679-BEC2-26D1FDE8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8CD6-2130-4EA4-AFB6-4C53BB1B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6D2B-740C-41AE-B2F8-77404503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A7D9-DB40-466E-8371-648DA07C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BE3F-0CE9-4AB1-BF0F-6660E0B1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6497-7EC3-4BD8-A6B8-FDF8FFA9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5B94-12EB-4498-BC9B-90CA3EE7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AD2B-0538-49E9-AC2A-C5319179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FED0-1B74-46E9-B916-CBD86199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355E-5D86-4775-811F-E2E8907D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660F-12EE-4D6C-B497-A3912D56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89D1-987F-4BBB-BCA6-EC51417E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1F94-EA9B-4590-ADEF-B28C38666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03200" y="1689120"/>
            <a:ext cx="12812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t&lt;string&gt; nr_i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51200" y="2290680"/>
            <a:ext cx="173016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d::map&lt;string,int&gt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to id_index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4" idx="3"/>
            <a:endCxn id="41" idx="0"/>
          </p:cNvCxnSpPr>
          <p:nvPr/>
        </p:nvCxnSpPr>
        <p:spPr>
          <a:xfrm flipH="1">
            <a:off x="1943640" y="1357200"/>
            <a:ext cx="3600" cy="3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>
            <a:off x="1943640" y="1920240"/>
            <a:ext cx="87300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90440" y="2309760"/>
            <a:ext cx="147024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ctor&lt;string&gt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_index to id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1" idx="2"/>
            <a:endCxn id="46" idx="0"/>
          </p:cNvCxnSpPr>
          <p:nvPr/>
        </p:nvCxnSpPr>
        <p:spPr>
          <a:xfrm flipH="1">
            <a:off x="925560" y="1920240"/>
            <a:ext cx="1018440" cy="38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2511360" y="3187800"/>
            <a:ext cx="255276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d::multimap&lt;int,int&gt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ir-wise interaction id_indice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2" idx="2"/>
            <a:endCxn id="50" idx="2"/>
          </p:cNvCxnSpPr>
          <p:nvPr/>
        </p:nvCxnSpPr>
        <p:spPr>
          <a:xfrm flipH="1" rot="16200000">
            <a:off x="3201480" y="2345040"/>
            <a:ext cx="154080" cy="92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5"/>
            <a:endCxn id="50" idx="0"/>
          </p:cNvCxnSpPr>
          <p:nvPr/>
        </p:nvCxnSpPr>
        <p:spPr>
          <a:xfrm flipH="1" rot="16200000">
            <a:off x="2681640" y="1725120"/>
            <a:ext cx="1598400" cy="612720"/>
          </a:xfrm>
          <a:prstGeom prst="bentConnector3">
            <a:avLst>
              <a:gd name="adj1" fmla="val 5390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50" idx="4"/>
            <a:endCxn id="48" idx="0"/>
          </p:cNvCxnSpPr>
          <p:nvPr/>
        </p:nvCxnSpPr>
        <p:spPr>
          <a:xfrm flipH="1" rot="16200000">
            <a:off x="3661920" y="3061800"/>
            <a:ext cx="251280" cy="1080"/>
          </a:xfrm>
          <a:prstGeom prst="bentConnector3">
            <a:avLst>
              <a:gd name="adj1" fmla="val 500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3740040" y="2830680"/>
            <a:ext cx="93600" cy="106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54760" y="1738440"/>
            <a:ext cx="1707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to category, std::map&lt;string,int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55" idx="4"/>
            <a:endCxn id="53" idx="0"/>
          </p:cNvCxnSpPr>
          <p:nvPr/>
        </p:nvCxnSpPr>
        <p:spPr>
          <a:xfrm>
            <a:off x="5905440" y="1355760"/>
            <a:ext cx="3600" cy="38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4857840" y="2733840"/>
            <a:ext cx="2109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_indices to category, std:vector&lt;string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3" idx="2"/>
            <a:endCxn id="58" idx="0"/>
          </p:cNvCxnSpPr>
          <p:nvPr/>
        </p:nvCxnSpPr>
        <p:spPr>
          <a:xfrm>
            <a:off x="5908680" y="2106720"/>
            <a:ext cx="7560" cy="23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969840" y="1108080"/>
            <a:ext cx="2454480" cy="2491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ir-wise interaction ids in a tab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78200" y="1106640"/>
            <a:ext cx="2454480" cy="2491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to category in a tab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8" idx="3"/>
            <a:endCxn id="60" idx="2"/>
          </p:cNvCxnSpPr>
          <p:nvPr/>
        </p:nvCxnSpPr>
        <p:spPr>
          <a:xfrm>
            <a:off x="5064120" y="3407400"/>
            <a:ext cx="798840" cy="1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5862600" y="3365640"/>
            <a:ext cx="9360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6" idx="2"/>
            <a:endCxn id="60" idx="0"/>
          </p:cNvCxnSpPr>
          <p:nvPr/>
        </p:nvCxnSpPr>
        <p:spPr>
          <a:xfrm flipH="1">
            <a:off x="5909400" y="3102120"/>
            <a:ext cx="3600" cy="26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6"/>
            <a:endCxn id="63" idx="1"/>
          </p:cNvCxnSpPr>
          <p:nvPr/>
        </p:nvCxnSpPr>
        <p:spPr>
          <a:xfrm>
            <a:off x="5956200" y="3418200"/>
            <a:ext cx="826920" cy="30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7207200" y="1779480"/>
            <a:ext cx="1359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r_categories set&lt;string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55" idx="5"/>
            <a:endCxn id="64" idx="0"/>
          </p:cNvCxnSpPr>
          <p:nvPr/>
        </p:nvCxnSpPr>
        <p:spPr>
          <a:xfrm flipH="1" rot="16200000">
            <a:off x="7110720" y="1003320"/>
            <a:ext cx="548640" cy="1004040"/>
          </a:xfrm>
          <a:prstGeom prst="bentConnector3">
            <a:avLst>
              <a:gd name="adj1" fmla="val -64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4" idx="2"/>
            <a:endCxn id="63" idx="6"/>
          </p:cNvCxnSpPr>
          <p:nvPr/>
        </p:nvCxnSpPr>
        <p:spPr>
          <a:xfrm rot="5400000">
            <a:off x="6568920" y="2442960"/>
            <a:ext cx="1612800" cy="1022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5869080" y="2343240"/>
            <a:ext cx="9360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42" idx="3"/>
            <a:endCxn id="58" idx="2"/>
          </p:cNvCxnSpPr>
          <p:nvPr/>
        </p:nvCxnSpPr>
        <p:spPr>
          <a:xfrm flipV="1">
            <a:off x="3681360" y="2395800"/>
            <a:ext cx="2188080" cy="114840"/>
          </a:xfrm>
          <a:prstGeom prst="curvedConnector3">
            <a:avLst>
              <a:gd name="adj1" fmla="val 250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8" idx="4"/>
            <a:endCxn id="56" idx="0"/>
          </p:cNvCxnSpPr>
          <p:nvPr/>
        </p:nvCxnSpPr>
        <p:spPr>
          <a:xfrm flipH="1">
            <a:off x="5912640" y="2448000"/>
            <a:ext cx="360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2575080" y="4307040"/>
            <a:ext cx="240804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d::multimap&lt;int,int&gt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S02 interaction id_ind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97520" y="5095800"/>
            <a:ext cx="2981520" cy="29376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&lt;pair&lt;string,string&gt;,int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iginal edge count between categ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69080" y="3706920"/>
            <a:ext cx="95400" cy="106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3" idx="4"/>
            <a:endCxn id="70" idx="1"/>
          </p:cNvCxnSpPr>
          <p:nvPr/>
        </p:nvCxnSpPr>
        <p:spPr>
          <a:xfrm flipH="1" rot="16200000">
            <a:off x="6461280" y="4168440"/>
            <a:ext cx="1283040" cy="5716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2949480" y="3782880"/>
            <a:ext cx="1656000" cy="297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S02 permu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8" idx="2"/>
            <a:endCxn id="72" idx="0"/>
          </p:cNvCxnSpPr>
          <p:nvPr/>
        </p:nvCxnSpPr>
        <p:spPr>
          <a:xfrm flipH="1">
            <a:off x="3777480" y="3627360"/>
            <a:ext cx="10440" cy="15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72" idx="4"/>
            <a:endCxn id="69" idx="0"/>
          </p:cNvCxnSpPr>
          <p:nvPr/>
        </p:nvCxnSpPr>
        <p:spPr>
          <a:xfrm>
            <a:off x="3777480" y="4079880"/>
            <a:ext cx="1800" cy="22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9" idx="3"/>
            <a:endCxn id="60" idx="4"/>
          </p:cNvCxnSpPr>
          <p:nvPr/>
        </p:nvCxnSpPr>
        <p:spPr>
          <a:xfrm flipV="1">
            <a:off x="4983120" y="3470400"/>
            <a:ext cx="926640" cy="105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409840" y="5092560"/>
            <a:ext cx="2454120" cy="3589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&lt;pair&lt;string,string&gt;,int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S02 edge count between categ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63" idx="2"/>
            <a:endCxn id="76" idx="5"/>
          </p:cNvCxnSpPr>
          <p:nvPr/>
        </p:nvCxnSpPr>
        <p:spPr>
          <a:xfrm flipV="1" rot="10800000">
            <a:off x="4614120" y="3760200"/>
            <a:ext cx="2155320" cy="151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1784520" y="14760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02 Data Flow chart, Hong Qin, Oct 24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21:27:20Z</dcterms:created>
  <dc:creator> </dc:creator>
  <dc:description/>
  <dc:language>en-US</dc:language>
  <cp:lastModifiedBy> </cp:lastModifiedBy>
  <dcterms:modified xsi:type="dcterms:W3CDTF">2003-10-24T21:32:00Z</dcterms:modified>
  <cp:revision>9</cp:revision>
  <dc:subject/>
  <dc:title>Slide 1</dc:title>
</cp:coreProperties>
</file>