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F1C-E9C9-42D6-9FE7-D4AF22F8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2B3-DF34-419E-BF78-4A1D7FE7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E70-694B-4B98-8930-C70DA8C9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4E4-49F3-4E5F-B850-41C190D5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875-35EE-4187-9B34-483BD05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E3A-F27E-4CCA-B534-76F89F6D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136-CAD7-4F10-8E61-09F539A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22B-8F9F-4715-87B2-AA4C0AA1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0AD-6C52-4318-AFCA-4E98185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DEF-932B-4EEC-B2AE-F9F9266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C62-3D80-4B6E-951C-404C3A16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F16-D565-4978-A13E-69B4B4B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A289-C068-43A3-A4D1-D51C1379F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3200" y="1689120"/>
            <a:ext cx="1281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t&lt;string&gt; nr_i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0" y="2290680"/>
            <a:ext cx="17301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ap&lt;string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id_index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4" idx="3"/>
            <a:endCxn id="41" idx="0"/>
          </p:cNvCxnSpPr>
          <p:nvPr/>
        </p:nvCxnSpPr>
        <p:spPr>
          <a:xfrm flipH="1">
            <a:off x="1943640" y="1357200"/>
            <a:ext cx="360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943640" y="1920240"/>
            <a:ext cx="87300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90440" y="2309760"/>
            <a:ext cx="14702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ctor&lt;string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ex to id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0"/>
          </p:cNvCxnSpPr>
          <p:nvPr/>
        </p:nvCxnSpPr>
        <p:spPr>
          <a:xfrm flipH="1">
            <a:off x="925560" y="1920240"/>
            <a:ext cx="1018440" cy="3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511360" y="3187800"/>
            <a:ext cx="25527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_indic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2" idx="2"/>
            <a:endCxn id="50" idx="2"/>
          </p:cNvCxnSpPr>
          <p:nvPr/>
        </p:nvCxnSpPr>
        <p:spPr>
          <a:xfrm flipH="1" rot="16200000">
            <a:off x="3201480" y="2345040"/>
            <a:ext cx="154080" cy="92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5"/>
            <a:endCxn id="50" idx="0"/>
          </p:cNvCxnSpPr>
          <p:nvPr/>
        </p:nvCxnSpPr>
        <p:spPr>
          <a:xfrm flipH="1" rot="16200000">
            <a:off x="2681640" y="1725120"/>
            <a:ext cx="1598400" cy="612720"/>
          </a:xfrm>
          <a:prstGeom prst="bentConnector3">
            <a:avLst>
              <a:gd name="adj1" fmla="val 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50" idx="4"/>
            <a:endCxn id="48" idx="0"/>
          </p:cNvCxnSpPr>
          <p:nvPr/>
        </p:nvCxnSpPr>
        <p:spPr>
          <a:xfrm flipH="1" rot="16200000">
            <a:off x="3661920" y="3061800"/>
            <a:ext cx="251280" cy="1080"/>
          </a:xfrm>
          <a:prstGeom prst="bentConnector3">
            <a:avLst>
              <a:gd name="adj1" fmla="val 50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740040" y="2830680"/>
            <a:ext cx="936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54760" y="1738440"/>
            <a:ext cx="170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, std::map&lt;string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5" idx="4"/>
            <a:endCxn id="53" idx="0"/>
          </p:cNvCxnSpPr>
          <p:nvPr/>
        </p:nvCxnSpPr>
        <p:spPr>
          <a:xfrm>
            <a:off x="5905440" y="1355760"/>
            <a:ext cx="360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857840" y="2733840"/>
            <a:ext cx="210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ices to category, std:vector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58" idx="0"/>
          </p:cNvCxnSpPr>
          <p:nvPr/>
        </p:nvCxnSpPr>
        <p:spPr>
          <a:xfrm>
            <a:off x="5908680" y="2106720"/>
            <a:ext cx="7560" cy="23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969840" y="110808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s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78200" y="110664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8" idx="3"/>
            <a:endCxn id="60" idx="2"/>
          </p:cNvCxnSpPr>
          <p:nvPr/>
        </p:nvCxnSpPr>
        <p:spPr>
          <a:xfrm>
            <a:off x="5064120" y="3407400"/>
            <a:ext cx="798840" cy="1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862600" y="33656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>
            <a:off x="5909400" y="3102120"/>
            <a:ext cx="360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6"/>
            <a:endCxn id="63" idx="1"/>
          </p:cNvCxnSpPr>
          <p:nvPr/>
        </p:nvCxnSpPr>
        <p:spPr>
          <a:xfrm>
            <a:off x="5956200" y="3418200"/>
            <a:ext cx="826920" cy="30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207200" y="1779480"/>
            <a:ext cx="1359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r_categories set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5"/>
            <a:endCxn id="64" idx="0"/>
          </p:cNvCxnSpPr>
          <p:nvPr/>
        </p:nvCxnSpPr>
        <p:spPr>
          <a:xfrm flipH="1" rot="16200000">
            <a:off x="7110720" y="1003320"/>
            <a:ext cx="548640" cy="1004040"/>
          </a:xfrm>
          <a:prstGeom prst="bentConnector3">
            <a:avLst>
              <a:gd name="adj1" fmla="val -6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2"/>
            <a:endCxn id="63" idx="6"/>
          </p:cNvCxnSpPr>
          <p:nvPr/>
        </p:nvCxnSpPr>
        <p:spPr>
          <a:xfrm rot="5400000">
            <a:off x="6568920" y="2442960"/>
            <a:ext cx="1612800" cy="102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869080" y="23432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42" idx="3"/>
            <a:endCxn id="58" idx="2"/>
          </p:cNvCxnSpPr>
          <p:nvPr/>
        </p:nvCxnSpPr>
        <p:spPr>
          <a:xfrm flipV="1">
            <a:off x="3681360" y="2395800"/>
            <a:ext cx="2188080" cy="114840"/>
          </a:xfrm>
          <a:prstGeom prst="curvedConnector3">
            <a:avLst>
              <a:gd name="adj1" fmla="val 25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8" idx="4"/>
            <a:endCxn id="56" idx="0"/>
          </p:cNvCxnSpPr>
          <p:nvPr/>
        </p:nvCxnSpPr>
        <p:spPr>
          <a:xfrm flipH="1">
            <a:off x="5912640" y="2448000"/>
            <a:ext cx="36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575080" y="4307040"/>
            <a:ext cx="24080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interaction id_ind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97520" y="5095800"/>
            <a:ext cx="2981520" cy="293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9080" y="3706920"/>
            <a:ext cx="954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4"/>
            <a:endCxn id="70" idx="1"/>
          </p:cNvCxnSpPr>
          <p:nvPr/>
        </p:nvCxnSpPr>
        <p:spPr>
          <a:xfrm flipH="1" rot="16200000">
            <a:off x="6461280" y="4168440"/>
            <a:ext cx="1283040" cy="5716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949480" y="3782880"/>
            <a:ext cx="1656000" cy="29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perm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8" idx="2"/>
            <a:endCxn id="72" idx="0"/>
          </p:cNvCxnSpPr>
          <p:nvPr/>
        </p:nvCxnSpPr>
        <p:spPr>
          <a:xfrm flipH="1">
            <a:off x="3777480" y="3627360"/>
            <a:ext cx="1044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2" idx="4"/>
            <a:endCxn id="69" idx="0"/>
          </p:cNvCxnSpPr>
          <p:nvPr/>
        </p:nvCxnSpPr>
        <p:spPr>
          <a:xfrm>
            <a:off x="3777480" y="4079880"/>
            <a:ext cx="180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3"/>
            <a:endCxn id="60" idx="4"/>
          </p:cNvCxnSpPr>
          <p:nvPr/>
        </p:nvCxnSpPr>
        <p:spPr>
          <a:xfrm flipV="1">
            <a:off x="4983120" y="3470400"/>
            <a:ext cx="9266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409840" y="5092560"/>
            <a:ext cx="2454120" cy="358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63" idx="2"/>
            <a:endCxn id="76" idx="5"/>
          </p:cNvCxnSpPr>
          <p:nvPr/>
        </p:nvCxnSpPr>
        <p:spPr>
          <a:xfrm flipV="1" rot="10800000">
            <a:off x="4614120" y="3760200"/>
            <a:ext cx="2155320" cy="151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1784520" y="1476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02 Data Flow chart, Hong Qin, Oct 24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1:27:20Z</dcterms:created>
  <dc:creator> </dc:creator>
  <dc:description/>
  <dc:language>en-US</dc:language>
  <cp:lastModifiedBy> </cp:lastModifiedBy>
  <dcterms:modified xsi:type="dcterms:W3CDTF">2003-10-24T21:32:00Z</dcterms:modified>
  <cp:revision>9</cp:revision>
  <dc:subject/>
  <dc:title>Slide 1</dc:title>
</cp:coreProperties>
</file>