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C11-0096-4F55-997C-C85077C5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855-E8E6-4E68-8130-06CBFAFA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5E2-D85C-4178-9BD2-4D929419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77F-C2A5-4F2D-9AAC-F7B12C8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33C-BB9F-4415-AD48-0820C77E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002-7068-42D8-A664-4E0CD69C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D82-D0B7-48BD-83E7-6C85B89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25F-9F48-4636-AFC3-799F82E9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9D1-F73B-4615-A3DB-F39F4C3A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EFB-6149-49A6-9B68-51FFA37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AF3-4C6B-4E33-AE29-8A4BB9D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17A-68AB-49E3-9593-0E72C08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757-5F17-4E71-AB42-F1897B8F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3200" y="1689120"/>
            <a:ext cx="128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t&lt;string&gt; nr_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0" y="2290680"/>
            <a:ext cx="17301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ap&lt;string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id_inde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1" idx="0"/>
          </p:cNvCxnSpPr>
          <p:nvPr/>
        </p:nvCxnSpPr>
        <p:spPr>
          <a:xfrm flipH="1">
            <a:off x="1943640" y="1357200"/>
            <a:ext cx="36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943640" y="1920240"/>
            <a:ext cx="87300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90440" y="2309760"/>
            <a:ext cx="14702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&lt;string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ex to i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 flipH="1">
            <a:off x="925560" y="1920240"/>
            <a:ext cx="10184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511360" y="3187800"/>
            <a:ext cx="25527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_ind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2"/>
            <a:endCxn id="50" idx="2"/>
          </p:cNvCxnSpPr>
          <p:nvPr/>
        </p:nvCxnSpPr>
        <p:spPr>
          <a:xfrm flipH="1" rot="16200000">
            <a:off x="3201480" y="2345040"/>
            <a:ext cx="154080" cy="92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5"/>
            <a:endCxn id="50" idx="0"/>
          </p:cNvCxnSpPr>
          <p:nvPr/>
        </p:nvCxnSpPr>
        <p:spPr>
          <a:xfrm flipH="1" rot="16200000">
            <a:off x="2681640" y="1725120"/>
            <a:ext cx="1598400" cy="612720"/>
          </a:xfrm>
          <a:prstGeom prst="bentConnector3">
            <a:avLst>
              <a:gd name="adj1" fmla="val 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4"/>
            <a:endCxn id="48" idx="0"/>
          </p:cNvCxnSpPr>
          <p:nvPr/>
        </p:nvCxnSpPr>
        <p:spPr>
          <a:xfrm flipH="1" rot="16200000">
            <a:off x="3661920" y="3061800"/>
            <a:ext cx="251280" cy="108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740040" y="2830680"/>
            <a:ext cx="936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760" y="1738440"/>
            <a:ext cx="170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, std::map&lt;string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5" idx="4"/>
            <a:endCxn id="53" idx="0"/>
          </p:cNvCxnSpPr>
          <p:nvPr/>
        </p:nvCxnSpPr>
        <p:spPr>
          <a:xfrm>
            <a:off x="5905440" y="1355760"/>
            <a:ext cx="36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857840" y="2733840"/>
            <a:ext cx="210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ices to category, std:vector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8" idx="0"/>
          </p:cNvCxnSpPr>
          <p:nvPr/>
        </p:nvCxnSpPr>
        <p:spPr>
          <a:xfrm>
            <a:off x="5908680" y="2106720"/>
            <a:ext cx="7560" cy="23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969840" y="110808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s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8200" y="110664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8" idx="3"/>
            <a:endCxn id="60" idx="2"/>
          </p:cNvCxnSpPr>
          <p:nvPr/>
        </p:nvCxnSpPr>
        <p:spPr>
          <a:xfrm>
            <a:off x="5064120" y="3407400"/>
            <a:ext cx="79884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2600" y="33656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>
            <a:off x="5909400" y="3102120"/>
            <a:ext cx="360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6"/>
            <a:endCxn id="63" idx="1"/>
          </p:cNvCxnSpPr>
          <p:nvPr/>
        </p:nvCxnSpPr>
        <p:spPr>
          <a:xfrm>
            <a:off x="5956200" y="3418200"/>
            <a:ext cx="826920" cy="30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207200" y="1779480"/>
            <a:ext cx="135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r_categories set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5"/>
            <a:endCxn id="64" idx="0"/>
          </p:cNvCxnSpPr>
          <p:nvPr/>
        </p:nvCxnSpPr>
        <p:spPr>
          <a:xfrm flipH="1" rot="16200000">
            <a:off x="7110720" y="1003320"/>
            <a:ext cx="548640" cy="1004040"/>
          </a:xfrm>
          <a:prstGeom prst="bentConnector3">
            <a:avLst>
              <a:gd name="adj1" fmla="val -6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2"/>
            <a:endCxn id="63" idx="6"/>
          </p:cNvCxnSpPr>
          <p:nvPr/>
        </p:nvCxnSpPr>
        <p:spPr>
          <a:xfrm rot="5400000">
            <a:off x="6568920" y="2442960"/>
            <a:ext cx="1612800" cy="102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869080" y="23432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2" idx="3"/>
            <a:endCxn id="58" idx="2"/>
          </p:cNvCxnSpPr>
          <p:nvPr/>
        </p:nvCxnSpPr>
        <p:spPr>
          <a:xfrm flipV="1">
            <a:off x="3681360" y="2395800"/>
            <a:ext cx="2188080" cy="11484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4"/>
            <a:endCxn id="56" idx="0"/>
          </p:cNvCxnSpPr>
          <p:nvPr/>
        </p:nvCxnSpPr>
        <p:spPr>
          <a:xfrm flipH="1">
            <a:off x="5912640" y="2448000"/>
            <a:ext cx="36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75080" y="4307040"/>
            <a:ext cx="24080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interaction id_ind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97520" y="5095800"/>
            <a:ext cx="2981520" cy="293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3706920"/>
            <a:ext cx="954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4"/>
            <a:endCxn id="70" idx="1"/>
          </p:cNvCxnSpPr>
          <p:nvPr/>
        </p:nvCxnSpPr>
        <p:spPr>
          <a:xfrm flipH="1" rot="16200000">
            <a:off x="6461280" y="4168440"/>
            <a:ext cx="1283040" cy="5716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949480" y="3782880"/>
            <a:ext cx="1656000" cy="2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perm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8" idx="2"/>
            <a:endCxn id="72" idx="0"/>
          </p:cNvCxnSpPr>
          <p:nvPr/>
        </p:nvCxnSpPr>
        <p:spPr>
          <a:xfrm flipH="1">
            <a:off x="3777480" y="3627360"/>
            <a:ext cx="1044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4"/>
            <a:endCxn id="69" idx="0"/>
          </p:cNvCxnSpPr>
          <p:nvPr/>
        </p:nvCxnSpPr>
        <p:spPr>
          <a:xfrm>
            <a:off x="3777480" y="4079880"/>
            <a:ext cx="180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0" idx="4"/>
          </p:cNvCxnSpPr>
          <p:nvPr/>
        </p:nvCxnSpPr>
        <p:spPr>
          <a:xfrm flipV="1">
            <a:off x="4983120" y="3470400"/>
            <a:ext cx="9266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09840" y="5092560"/>
            <a:ext cx="2454120" cy="358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3" idx="2"/>
            <a:endCxn id="76" idx="5"/>
          </p:cNvCxnSpPr>
          <p:nvPr/>
        </p:nvCxnSpPr>
        <p:spPr>
          <a:xfrm flipV="1" rot="10800000">
            <a:off x="4614120" y="3760200"/>
            <a:ext cx="2155320" cy="151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784520" y="1476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02 Data Flow chart, Hong Qin, Oct 24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1:27:20Z</dcterms:created>
  <dc:creator> </dc:creator>
  <dc:description/>
  <dc:language>en-US</dc:language>
  <cp:lastModifiedBy> </cp:lastModifiedBy>
  <dcterms:modified xsi:type="dcterms:W3CDTF">2003-10-24T21:32:00Z</dcterms:modified>
  <cp:revision>9</cp:revision>
  <dc:subject/>
  <dc:title>Slide 1</dc:title>
</cp:coreProperties>
</file>