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AD2-AD47-401B-B160-ACEB42E5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D55-EB60-4484-9CEC-4DB26DE6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F299-3B3A-48CD-AEF1-6D24A20A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FA4-2DBA-400A-8D5D-31934C53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2D5-036B-4AD4-9922-E7E6E2BF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8C9-4219-4C4F-9E6D-0A61B655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5DE-846F-4110-9E40-24D060FA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F430-CAFE-4274-BAF7-153CED75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13C-6870-4F02-B059-376A79CE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7B7-0D9C-4A84-81F4-61B3EF1B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7175-DDCE-4B3B-902D-3D7B89A0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E99-FBAA-4788-BF7A-194008BB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121A-62E8-49EF-A076-526CD322E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azusa.or.jp/codon/cgi-bin/showcodon.cgi?species=Escherichia+coli+K12+%5Bgbbct%5D&amp;aa=1&amp;style=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3214" r="2411" b="18059"/>
          <a:stretch/>
        </p:blipFill>
        <p:spPr>
          <a:xfrm>
            <a:off x="1447920" y="838080"/>
            <a:ext cx="6172200" cy="3733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2400" y="152280"/>
            <a:ext cx="78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use “Mutagenesis Primer Generator by JL 071106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676520"/>
            <a:ext cx="609480" cy="2286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9907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Put sequence here</a:t>
            </a:r>
            <a:br>
              <a:rPr sz="1400"/>
            </a:b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(FASTA O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666880"/>
            <a:ext cx="1066680" cy="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504960" y="1828800"/>
            <a:ext cx="1143000" cy="7621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09680"/>
            <a:ext cx="14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Put amino acid residue number you want to change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295280"/>
            <a:ext cx="1082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Put amino acid letter code you want to change to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3048120"/>
            <a:ext cx="1752480" cy="1371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09680" y="4495680"/>
            <a:ext cx="304920" cy="106704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548640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Change settings here decimal number allo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Optimum is turned off when set to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3048120"/>
            <a:ext cx="228600" cy="1371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733560" y="4495320"/>
            <a:ext cx="685800" cy="11430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5410080"/>
            <a:ext cx="458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Critical will force the primers generated to meet the criteria by scoring all that doesn’t meet the criteria as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048120" y="2971800"/>
            <a:ext cx="2286000" cy="175248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4495680"/>
            <a:ext cx="304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You can force program to use particular codon you write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BUT Residue letter box must be fil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9421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st fill in the user settings and program will automatically generate pr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lting temperature (Tm) is calculated using the formula from QuikChange manual from Strata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6000" y="15228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analyz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381" t="4764" r="1189" b="15878"/>
          <a:stretch/>
        </p:blipFill>
        <p:spPr>
          <a:xfrm>
            <a:off x="380880" y="990720"/>
            <a:ext cx="617220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0" y="304920"/>
            <a:ext cx="138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eck your sequence is properly trans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0666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eck mutation site and amino acid residue before mutation is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n the bracket is DNA codon befor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2971800"/>
            <a:ext cx="2210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odon will be automa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choosed based on the 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Minimum mism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Highest codon usag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If you don’t like codon select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type in the codon you like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Force Codo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248160" y="685800"/>
            <a:ext cx="609480" cy="762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343040" y="1600200"/>
            <a:ext cx="2514600" cy="10666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809520" y="2895480"/>
            <a:ext cx="2971800" cy="6098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2133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List of available codons, and it’s mismatches and usag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171840" y="2438280"/>
            <a:ext cx="6858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419360" y="3429000"/>
            <a:ext cx="2438280" cy="17524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63760" y="4876920"/>
            <a:ext cx="2139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Symmetrically designed pri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that satisfy optim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or minimum 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266720" y="4038480"/>
            <a:ext cx="2514600" cy="1905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2160" y="5638680"/>
            <a:ext cx="230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Asymetrically designed primers that earned highest score in scoring cri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7640" y="5638680"/>
            <a:ext cx="710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imers are scored by earning max point for the criteria when they are in opti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 if optimum is turned off (0), earns full point if it’s in the range between max and 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T if critical is turned on, final score is 0 no matter what if they don’t satisfy that cri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7080" y="15228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us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2248" t="8992" r="0" b="12502"/>
          <a:stretch/>
        </p:blipFill>
        <p:spPr>
          <a:xfrm>
            <a:off x="380880" y="1066680"/>
            <a:ext cx="6629400" cy="3992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6019920" y="4419720"/>
            <a:ext cx="121896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411480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Select text (drag to highlight) than RIGHT-mouse click and select 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952880" y="4952880"/>
            <a:ext cx="152640" cy="99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943600"/>
            <a:ext cx="5333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</a:rPr>
              <a:t>Press here to APPEND ( = Add at the end BUT will create new if you give new filename)  onto a text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2666520" y="2590920"/>
            <a:ext cx="2057400" cy="2133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6360" y="152280"/>
            <a:ext cx="46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change the codon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2080" y="609480"/>
            <a:ext cx="776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 will read codons from “codon.dat” – Text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* Used ‘dat’ extensions to prevent people from Appending their output onto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odon database came with this program is for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scherichia co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1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kazusa.or.jp/codon/cgi-bin/showcodon.cgi?species=Escherichia+coli+K12+%5Bgbbct%5D&amp;aa=1&amp;style=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rcRect l="11540" t="8545" r="11540" b="17950"/>
          <a:stretch/>
        </p:blipFill>
        <p:spPr>
          <a:xfrm>
            <a:off x="990720" y="2438280"/>
            <a:ext cx="4572000" cy="327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867280" y="2362320"/>
            <a:ext cx="2819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e should be formatted like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st 3 character – co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haracter – AA l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 - 16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har –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st be written in DNA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 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* Use Replace command and change U </a:t>
            </a:r>
            <a:r>
              <a:rPr b="1" lang="en-US" sz="1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30492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de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99640" y="879480"/>
            <a:ext cx="39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nas Lee using Visual Ba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676520"/>
            <a:ext cx="665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. S-H Kim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1 Chemistry Nobel Laureate + “Lab”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artment of Chem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versity of California Berke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9080" y="3352680"/>
            <a:ext cx="85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ree to distribute BUT must be distributed with the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040" y="4079880"/>
            <a:ext cx="61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NO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pyright 2006. 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NO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9200" y="484200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fer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kChange Multi Mutagenesis Manual from Strata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on Usage Table from Gen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02:36:22Z</dcterms:created>
  <dc:creator>Jonas Lee</dc:creator>
  <dc:description/>
  <dc:language>en-US</dc:language>
  <cp:lastModifiedBy>Jonas Lee</cp:lastModifiedBy>
  <dcterms:modified xsi:type="dcterms:W3CDTF">2007-04-03T06:39:34Z</dcterms:modified>
  <cp:revision>42</cp:revision>
  <dc:subject/>
  <dc:title>PowerPoint Presentation</dc:title>
</cp:coreProperties>
</file>